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E4F-A378-4B62-A9BF-8351D032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E7E-2D32-4CC3-AC94-7E6D3338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BDC-4EB6-48C4-BCFF-CF03DDE3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144-A0CD-4C04-A5D8-51F183A7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CB19-78C5-4F54-9AAF-CA7E95B1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6829-B5EB-4881-AFAF-06D0A902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2549-1527-479B-9DBD-28469352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46BD-0B3C-4865-8084-F1419B0B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440C-CCA2-4771-AF15-71213991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7CFE-93C8-4D95-B36B-14A4CD7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6451-7F09-4897-8497-50BF88C0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862-E4E1-4EBB-83C3-FC5CEA9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9138-094D-4F57-8046-5648E42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442-5FFB-41B4-875A-25D589F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3F91-2020-4359-9295-FB00E90E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F84D-9E9E-40E5-9811-1C0CFEBC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6003-E4C2-4442-9608-930F0003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260A-D603-420A-8F4A-B28F4AAC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18E0-FEC5-424C-BCF3-C54F9497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CE62-CCFE-4E7B-AEF8-87A05FA7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D9C8-4C66-43F6-95E1-793186AA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2C62-09AE-48F4-82DF-ACE0CB9D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8CA-06CF-4C7D-A0AF-7483B0F9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AD95-E90B-4705-BFF2-CD564A9E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1320-5C63-4D3A-AABA-4CD5D29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154B-996A-405D-93FE-41C5215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D4BC-22F9-4FF4-83AE-32290E8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7BA5-622D-4D0B-B514-F89E3472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1857-74A2-4717-9F2A-4D902AB2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3866-1340-49CE-B4F7-2A95ED8A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35EB-C5A1-4AE2-A0CA-BBA51170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99B9-4105-4DBE-809F-3AB59CE7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2B58-949E-468C-A4F1-DB38761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63B-0024-4593-A754-BC3B6529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2F57-B77F-4E74-841B-3EB59F0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63AB-010E-4795-A50A-B823D71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245A-9165-47B0-A97C-EFF7290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9D57-6346-4167-93F1-8F8E5D3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EC5B-CF0C-4A2F-AB69-BD08140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1D89-06ED-4E31-98A0-443D455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08DA-15BB-4BB6-B115-566A8F02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ADFF-1980-4CB9-A96A-E8EF1A8E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F7EC-33A3-4080-B59B-A30824AE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9D312-7E17-4B0E-83C9-DAF195E4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6F1-CA67-485A-BDDD-13BC4FC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B6A7-B187-42C4-849B-C751868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F702-FCF2-4C88-95FB-23E9B768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86637-A70B-448A-A8AF-9C80CFDE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E19B-DC02-4CD6-B694-FBCCAAFF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C7B6-03A0-438C-A6E1-BE0761F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7FFE5-172C-41F0-9A36-154E47B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5EBA8-603B-4B3F-B38C-DB44FBD1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3BF5A-A5C6-41C7-B499-20A99BD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0A2E-472B-4F1F-A2F0-9661AAF7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D038-1FF3-423E-8820-DD5073C3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2C4-4BA6-441D-BCB6-630E094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A8C05-9E25-46D3-AB61-CB4197A2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36F90-23D9-4FEB-B8D4-F0794A17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8D08F-9B19-4B52-8A24-E9364A3E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369CF-8DB1-441A-B85C-4D789BC2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39DDD-E270-46FD-A918-F77855C2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B7C0F-F6E6-4882-B40C-85DACD06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F3FC-1BE0-403D-B858-33B93219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AC8B-D563-44B1-9849-470903E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7F3C9-58EA-4450-A625-1588CB9E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DB066-0E3C-410B-A116-D76DE953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527-0A6D-4F5A-927D-8A33169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93E98-8A2E-40BF-8695-57F480E5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D332A-79FA-4696-BED3-71C0F64B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BCD9-1B87-4CF4-AF69-EB5D16C8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31832-8ABC-403C-B629-D4833977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9F6F-D862-4E55-B5B8-33D936E7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B284E-76EE-44CB-BE47-427E3679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7518-E268-4C58-BDA4-184BE10B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0C37-8159-4B2E-B2C5-35F5C406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FE77C-ACF7-4A31-8B88-A5742D6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9F95-1648-4D39-8963-B79FAE5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C24-2DE7-44F5-92A9-06B01A1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E6F48-828C-4513-A1FB-AF879BC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D2149-0F2B-44DC-8487-BF4743A2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C62E-580E-41BB-B5A6-A479BA39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A7C23-5A01-44E7-A7A3-C2AE5AEC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248CF-BCE1-4520-905C-B26CC575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3091F-4C00-47F3-BB9C-3D02CF80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2BFD-A8BD-4781-BF6D-354D38A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9F1BB-6E1F-4197-8844-373556C1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E52E8-9C3C-491C-BE8B-A98C447A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63720-AE35-4F47-8F26-7B5DB10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633-7996-47A8-8484-6C8DCD3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50728-1D37-4F52-ABA7-143B6AB5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CCFA-EA58-4FA3-9D11-3F4ECEDC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0DBE-EAE3-4C58-AADE-10CB490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AC6D2-3893-4584-9EDC-6A2D94B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B2A93-A44B-4AFB-9617-8CA929C4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004D4-EC5F-4EEB-A0E6-EE215637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16530-381A-4902-BF5C-648B3C11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5CB-9102-43C6-9EB2-66137135D06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80A8-6BDB-454D-B762-DD49FF4CED2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FB6-174F-403B-8C61-55A1DD60B66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11A-1D1A-40F4-AD80-42B5DC73083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D168-D16B-49FF-8D50-51A50BFE052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558A-846D-49E3-8877-9508E283E19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950-5B99-4E72-B864-A4B07A91376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9D2E-DAD7-49C8-9BA1-5B16E6EDAC7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4"/>
          <p:cNvSpPr/>
          <p:nvPr/>
        </p:nvSpPr>
        <p:spPr>
          <a:xfrm>
            <a:off x="500040" y="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Образ России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в лирике С.Есе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142920" y="578628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ыполнила: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ександрова Дарья Иван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ченица 9 «Б»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1785960" y="1571760"/>
            <a:ext cx="5500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500040" y="285840"/>
            <a:ext cx="8286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Образ России в поздней лирике поэ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42920" y="714240"/>
            <a:ext cx="88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Поэт едет на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Кавказ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где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ишет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лирические стихотворения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о красоте и экзотике окружающего мира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но мысли о России  не покидают его и здесь. </a:t>
            </a:r>
            <a:br>
              <a:rPr sz="2800"/>
            </a:b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Он все время рвется домой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вспоминает тоску бесконечных равнин, вербы вдоль дорог, бесплодные поля, жалкие лачуги. Так возникает картина старой деревни, которая не радует взгл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5357880" y="4714920"/>
            <a:ext cx="3645000" cy="201276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9"/>
          <p:cNvSpPr/>
          <p:nvPr/>
        </p:nvSpPr>
        <p:spPr>
          <a:xfrm>
            <a:off x="442908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2"/>
          <p:cNvSpPr/>
          <p:nvPr/>
        </p:nvSpPr>
        <p:spPr>
          <a:xfrm>
            <a:off x="142920" y="714240"/>
            <a:ext cx="88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Есенин воспевает синие озёра, малиновую ширь полей, жёлтые дороги, седые вер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Он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создаёт зримые образы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заросшего пруда, поля,  белого сада. Синий цвет- символ свободы; возвышение роли России до небес; золотой- золотые купола, рожь,  бескрайние по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Есенин также использует красный,  чёрный и белый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Цветопись в произведениях поэ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357880" y="4309920"/>
            <a:ext cx="3614760" cy="24004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9"/>
          <p:cNvSpPr/>
          <p:nvPr/>
        </p:nvSpPr>
        <p:spPr>
          <a:xfrm>
            <a:off x="442908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8571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В ходе проделанной работы удалось проследить, что на протяжении всего своего творчества Сергея Есенина облик России менялся, но тема оставалась неизм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Творчество Есенина - одна  из ярких, глубоко волнующих страниц истории русской поэзии, наполненная любовью к красоте родной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Результат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167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142920" y="214200"/>
            <a:ext cx="878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Только истинный патриот может так трепетно относиться к своей Родине  и быть вместе с ней в дни ее трудов и бедствий, а не только в дни побед и торжест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Уйдя из жизни в 30 лет, С.А. Есенин оставил нам чудесное и богатое поэтическое наследие. И пока живёт земля, Есенину-поэту суждено жить с нами и «воспевать всем существом в поэте шестую часть земли с названьем кратким «Рус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286240" y="4572000"/>
            <a:ext cx="3714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85840" y="928800"/>
            <a:ext cx="86439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5160"/>
                </a:solidFill>
                <a:latin typeface="Constantia"/>
              </a:rPr>
              <a:t>az.lib.ru/e/esenin_s.../text_0460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Читаем.Думаем.Спорим: Кн. для самостоят. работы учащихся по лит.: 9 кл./ Авт.-сост. Г.И.Беленький и др.; Под ред. Г.И.Беленького. – М.: Просвещение; Учебная литература, 1996. – 336 с.// С.А.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5160"/>
                </a:solidFill>
                <a:latin typeface="Constantia"/>
              </a:rPr>
              <a:t>http://www.sesenin.ru/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(О писате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5160"/>
                </a:solidFill>
                <a:latin typeface="Constantia"/>
              </a:rPr>
              <a:t>http://slova.org.ru/esenin/index/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(Стихотвор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714240" y="28584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Использованные источник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357120" y="2500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71680" y="42876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Пла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285840" y="1500120"/>
            <a:ext cx="86439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8119"/>
                </a:solidFill>
                <a:uFillTx/>
                <a:latin typeface="Constantia"/>
                <a:hlinkClick r:id="rId1" action="ppaction://hlinksldjump"/>
              </a:rPr>
              <a:t>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8119"/>
                </a:solidFill>
                <a:uFillTx/>
                <a:latin typeface="Constantia"/>
                <a:hlinkClick r:id="rId2" action="ppaction://hlinksldjump"/>
              </a:rPr>
              <a:t>Образ России в ранней лирике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8119"/>
                </a:solidFill>
                <a:uFillTx/>
                <a:latin typeface="Constantia"/>
                <a:hlinkClick r:id="rId3" action="ppaction://hlinksldjump"/>
              </a:rPr>
              <a:t>Образ России в годы зрелого творчества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Образ России в поздней лирике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Цветопись в произведениях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51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Результаты исследования образа России </a:t>
            </a:r>
            <a:br>
              <a:rPr sz="2800"/>
            </a:b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в творчестве Есе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4256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проследить,  как менялся образ Росси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на разных этапах творчества С. А. Есенина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5160"/>
                </a:solidFill>
                <a:latin typeface="Constantia"/>
              </a:rPr>
              <a:t>доказать, что данная тема оставалась основной в творчестве поэт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857160" y="35712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Цель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821520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143080" y="1357200"/>
            <a:ext cx="6834240" cy="5141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"Моя лирика, - не без гордости говорил Есенин, - жива одной большой любовью, любовью к Родине. Чувство Родины - основное в моем творчеств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0" y="1071720"/>
            <a:ext cx="88581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В ранних, юношеских стихах автор предстаёт как </a:t>
            </a:r>
            <a:r>
              <a:rPr b="1" lang="ru-RU" sz="2400" spc="-1" strike="noStrike">
                <a:solidFill>
                  <a:srgbClr val="165160"/>
                </a:solidFill>
                <a:latin typeface="Constantia"/>
              </a:rPr>
              <a:t>пламенный патриот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. Тогдашние его представления о родной земле ещё совсем детс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165160"/>
                </a:solidFill>
                <a:latin typeface="Constantia"/>
              </a:rPr>
              <a:t>Родина для Есенина 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– это село Константиново, где он родился, ближайшие окрестности села. «Рязанские поля, где мужики косили, где сеяли свой хлеб», стали его надёжной стартовой площадкой, колыбелью его поэз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5214960" y="3786120"/>
            <a:ext cx="3674880" cy="2889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142920" y="214200"/>
            <a:ext cx="90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Образ России в ранней лирике поэ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214200" y="28584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рирода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– это чудесный и необъятный храм, в котором всё прекрасно. Она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одлинный герой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ранней поэзии Есенина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Любовью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к земле, к лугам и травам, лесам и озёрам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роникнуты строки многих юношеских стихов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. Его лучшие ранние стихи пахнут весной, полны очаровательного задора и вес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4714920" y="3714840"/>
            <a:ext cx="42148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2"/>
          <p:cNvSpPr/>
          <p:nvPr/>
        </p:nvSpPr>
        <p:spPr>
          <a:xfrm>
            <a:off x="142920" y="0"/>
            <a:ext cx="90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рирода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у Есенина, подобно человеку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оет </a:t>
            </a:r>
            <a:br>
              <a:rPr sz="2800"/>
            </a:b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и плачет, грустит и радуется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. Многие его стихи - это поэмы о березе, которая стала своеобразным символом всего рус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Неброская, но трогательная, щемящая красота отличает есенинскую березку в "юбочке белой", которая остается непостижимо прекрасной в своем зеленом наряде. Сколько нежных и светлых чувств звучит в таких знакомых строчках поэ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5072040" y="3827520"/>
            <a:ext cx="3857760" cy="28875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9"/>
          <p:cNvSpPr/>
          <p:nvPr/>
        </p:nvSpPr>
        <p:spPr>
          <a:xfrm>
            <a:off x="4143240" y="614376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Constantia"/>
              </a:rPr>
              <a:t>Образ России в годы зрелого творчества поэ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42920" y="1214280"/>
            <a:ext cx="90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Несмотря на события 1917 года, поэт продолжает  воспевать неброскую красоту и удивительную прелесть российской природы.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Мы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видим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слышим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 и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чувствуем краски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звуки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запахи  лесов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полей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, </a:t>
            </a:r>
            <a:r>
              <a:rPr b="1" lang="ru-RU" sz="2800" spc="-1" strike="noStrike">
                <a:solidFill>
                  <a:srgbClr val="165160"/>
                </a:solidFill>
                <a:latin typeface="Constantia"/>
              </a:rPr>
              <a:t>лугов</a:t>
            </a:r>
            <a:r>
              <a:rPr b="0" lang="ru-RU" sz="2800" spc="-1" strike="noStrike">
                <a:solidFill>
                  <a:srgbClr val="165160"/>
                </a:solidFill>
                <a:latin typeface="Constantia"/>
              </a:rPr>
              <a:t>. «Зимы седой», «в чаще звонкой», «поет тишина», «лунного хлеба златятся снопы», так он создает образ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5500800" y="435780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285840" y="642960"/>
            <a:ext cx="871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Наряду с произведениями гражданской, политической лирики, созданными Есениным в 1917—1918 годах, дыхание грозы коснулось и его стихотворений, полных тончайшего проникновения в </a:t>
            </a:r>
            <a:r>
              <a:rPr b="1" lang="ru-RU" sz="2400" spc="-1" strike="noStrike">
                <a:solidFill>
                  <a:srgbClr val="165160"/>
                </a:solidFill>
                <a:latin typeface="Constantia"/>
              </a:rPr>
              <a:t>мир русской природы</a:t>
            </a: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Я по первому снегу бр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В сердце ландыши вспыхнувших сил. …………………………………………………………………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Хороша ты, о белая глад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Греет кровь мою легкий мороз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Так и хочется к телу при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onstantia"/>
              </a:rPr>
              <a:t>Обнаженные груди бере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4429080" y="621504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429160" y="4500720"/>
            <a:ext cx="35719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22:04:44Z</dcterms:created>
  <dc:creator>Admin</dc:creator>
  <dc:description/>
  <dc:language>en-US</dc:language>
  <cp:lastModifiedBy>студент</cp:lastModifiedBy>
  <dcterms:modified xsi:type="dcterms:W3CDTF">2001-12-31T22:27:09Z</dcterms:modified>
  <cp:revision>20</cp:revision>
  <dc:subject/>
  <dc:title>Слайд 1</dc:title>
</cp:coreProperties>
</file>